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BB7B-8875-4E24-AFFF-254607E0A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32CB-98D4-456B-9B3C-382B82192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41D2-C274-49DF-84A9-2602D6A2E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CB36-A199-4849-893D-0C4AE7517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2567-7404-49D0-8CD1-452FBE291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EFC6-0799-461B-9757-5B92932E0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2328-5C62-4A9F-9DF8-DE67DD3B71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A7AC-35BB-4EBB-9041-65EBAB942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1ED7-A7B8-4EFD-97DC-1B8AF97CA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1EA3-CB35-4D0E-AFB6-3632CF7E5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EEF6-6610-4909-9815-C7B80E842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FBB2-6065-4A2C-A6E5-A1FA2210C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6333-7E64-46B4-A744-5C0F34814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2035-C117-41F4-88A2-DD54BBC2FA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50C1-826B-4264-988F-90DCA506F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9DF-A54A-4B2C-930B-7E21BA966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E393-C693-418A-93BD-D284CEC28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6513-FE04-4EB9-8A5B-DCDA1A4AF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FBD7-405F-44B1-AD89-6E61E3A7C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4B06-51B8-4B51-A488-2BF42ECF0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4A31-7267-4C72-B0B3-1AB4E333A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B90B-442D-4B8B-B9CE-356398FB4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34E-2C03-420B-8897-76DA8D492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090-4A96-4DA4-9F0C-BED65682B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4325-1604-45B4-AD81-E61419999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5EE4-E9B0-4661-AAA1-1686A5697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C152-7BFD-45F9-AFDA-C5ACE144D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DE57-FC3C-4F4B-8345-D9BEEAC4D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206-8C06-4018-BB8D-7B2B189D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11C-4B54-486B-ABE9-12F68E52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7C3-49DA-44DC-B775-F114B935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9C1-33A2-45CC-BA2A-5D06CCEA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8449-BD26-42D6-BB34-1DFF698B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D1C-78FC-4563-9CCF-80C8A8BE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DAE-BC03-4370-8534-E4AE81C9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3BA-BB83-4AB4-9CA3-9904CE4D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7C4-FDC3-44C0-8BDD-4FD4D8B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B71-5F10-4F5D-81CC-5F81A68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70A-5BC0-40B5-AFEE-08516086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E71-6676-4A45-858C-90A5ED99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C6E5-057F-4B72-82BB-E56B56500A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e tokova novca od internet krimin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ja 1.4.2/Ča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aktivnost novčanih krijumč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alci koriste međunarodne transfere različitih vrsta kako bi se otežalo praćenje tokova prihoda od krimin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đunarodni transferi se mogu obavljati pomoću bankovnih računa, e-valute, usluga plaćanja preko interneta, usluga novčane doznake it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azovi nastaju u istrazi, pretresanju, oduzimanju i konfiskaciji kriminalnih sredstava kada se sredstva prenose na međunarodnom niv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međunarodnog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a kriminalne dobiti (na primer) od kompromitovanog bankovnog računa klij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edstva su preneta na krijumčare u istoj jurisdikci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i prenose sredstva putem međunarodnog bankarskog prenosa na fizičko ili pravno lice u drugoj jurisdikci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međunarodn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o korištenje međunarodn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međunarodn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međunarodn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elne valu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elne valute i e-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Za koje virtuelne valute i e-novac zn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elna valu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na valuta je digitalna reprezentacija vrednosti kojom se može digitalno trgovati i funkcioniše kao (1) sredstvo razmene; (2) jedinica računa; i / ili (3) skladište vrednosti, ali nema status zakonitog tendera u bilo kojoj jurisdikci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ktronski novac / e-nov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elna valuta se razlikuje od e-novca, što je digitalno predstavljanje dekretne valute koja se koristi za elektronski prenos vrednosti izražene u dekretnoj valuti. E-novac je mehanizam digitalnog prenosa dekretne valute - tj. on elektronski prenosi vrednost koja ima status zakonskog tend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na valu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na valuta je digitalna reprezentacija bilo virtualne valute (ne-dekretne) ili e-novca (dekret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e kriminalnog toka novca korišćenj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čanih krijumča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đunarodnih transf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elnih valu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elne valute i e-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mislite o značaju izraza "digitalno predstavljanje" u gore navedenim definicija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gorizacija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vertibi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Konvertibilna virtuelna valuta ima ekvivalentnu vrednost u stvarnoj valuti i može se razmenjivati napred-nazad za stvarnu valutu. Primeri: Bitcoin, Second Life Linden dolari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konvertib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Nekonvertibilna virtuelna valuta ima za cilj da bude specifična za određeni virtuelni domen ili svet, a prema pravilima koja regulišu njenu upotrebu ne može se zameniti za dekretnu valutu. Primeri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zov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zovane virtuelne valute imaju jedinstveni administrativni organ (tj. treće lice) koji kontroliše sistem. Administrator izdaje valutu, uspostavlja pravila za njenu upotrebu, vodi centralnu knjigu za plaćanje i ima nadležnost da otkupi valutu. Primeri: Linden dolari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zov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zovane virtuelne valute su distribuirane, matematičke bazirane, virtuelne valute od jedne do druge, bez centralnog administrativnog organa, bez centralnog nadzora i bez nadgledanja. Primeri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ija slučaja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e konvertibilna, decentralizovana virtuelna valu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kcije se odvijaju između korisnika bez posrednik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kcije su potvrđene koristeći javnu distribuiranu knjigu za plaćanje, koja se zove blokčej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(blockchai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 min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e proces kojim korisnici nude svoja računarska ovlašćenja da verifikuju i uknjiž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ransakcije u blokčejnu. Za to korisnici dobijaju nagradu u novostvorenim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i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ija slučaja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akteristi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uće su globalne transakci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ktično trenutne transakcije (oko 10 minuta dok se transakcija ne potvrd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cije se odvijaju između anonimnih ID-a (novčanik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a (ili nulta) taksa transakci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cije nisu reverzibil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risnički račun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70640" y="3532320"/>
            <a:ext cx="182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čanik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itco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1880" y="50562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&amp;C Infrastruk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6583680" y="619920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jumčar, tj. “mazg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532600" y="60976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min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vična upotreba virtuelne valute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kosistem virtua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zmena virtua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ministrator virtue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orisnik / Vlasn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čanik virtue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valac novčan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gov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stali entiteti (programeri itd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ejs između virtualnih valuta i tradicionalnog finansijskog sis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virtua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rivično stečena sredstva pretvaraju se u virtuelnu valutu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no, kriminalne usluge se plaćaju u virtualnoj valu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no, sredstva su iznuđena od žrtava u vidu virtualne valu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rtuelna valuta se trguje ili razmenjuje za dekretne valu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bog neusaglašene regulacije virtuelnih valuta, razmena virtuelnih valuta u svim jurisdikcijama ne može imati adekvatne kupovne evidencije i / ili obaveze izveštavan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da bi se naznačila upotreba virtuelnih valu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rzavanje, oduzimanje i konfiskacija virtue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zamrzavanje, oduzimanje i konfiskaciju sredstava koje poseduje davalac uluga plaćanja preko i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elnih valu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527280" y="45007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čani krijumčari su suštinska komponenta mnogih šema pranja novca na interne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jumčari se regrutuju kroz razne tehnike, koje se mogu široko kategorizovati n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brovoljne krijumčare, koje se regrutuju unapred znajući da učestvuju u ilegalnim aktivnostim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oljne krijumčare koji se regrutuju preko varljivih sredstava, poput lažne ponude za posa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brovoljni ili nevoljni krijumčar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zička lica se regrutuju ili dobrovoljno ili nevolj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edstva se prenose na bankovni račun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 zatim ili povlači sredstva kao gotovinu ili prenosi sredstva na drugi račun (ili u inostranstv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 zadržava provizi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načaj uhapšenih/osuđenih krijumčar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a je novačani krijumč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čemu je problem sa novčanim krijumčar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kako bi se naznačila upotreba novčanih krijumč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Aleksandra</cp:lastModifiedBy>
  <cp:lastPrinted>2016-05-18T07:38:13Z</cp:lastPrinted>
  <dcterms:modified xsi:type="dcterms:W3CDTF">2017-10-10T13:43:45Z</dcterms:modified>
  <cp:revision>349</cp:revision>
  <dc:subject/>
  <dc:title>PowerPoint Presentation</dc:title>
</cp:coreProperties>
</file>